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2825"/>
  <p:notesSz cx="6858000" cy="805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615276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420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6428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9084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6428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9084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5790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420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762120"/>
            <a:ext cx="5790960" cy="8458200"/>
          </a:xfrm>
          <a:prstGeom prst="rect">
            <a:avLst/>
          </a:prstGeom>
          <a:noFill/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457200"/>
            <a:ext cx="1771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91120" y="902016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0 - </a:t>
            </a:r>
            <a:fld id="{3883EAC7-D23B-48DE-A80C-EB1ADC360F63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43520" y="561960"/>
            <a:ext cx="80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90720" y="9029880"/>
            <a:ext cx="17334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255/0898/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nfo_gray" descr=""/>
          <p:cNvPicPr/>
          <p:nvPr/>
        </p:nvPicPr>
        <p:blipFill>
          <a:blip r:embed="rId2"/>
          <a:stretch/>
        </p:blipFill>
        <p:spPr>
          <a:xfrm>
            <a:off x="1066680" y="542880"/>
            <a:ext cx="1619280" cy="292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99880"/>
            <a:ext cx="57909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S25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IENTED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304812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Object Oriente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-1 to 1-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m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2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C+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-1 to 2-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4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-1 to 4-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5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 Oriented Concep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5-1 to 5-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C+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7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Use Of Clas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-1 to 7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9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9-1 to 9-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ymorphis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-1 to 10-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ter 13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OP Languages And O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3-1 to 13-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spcAft>
                <a:spcPts val="2100"/>
              </a:spcAft>
              <a:buNone/>
              <a:tabLst>
                <a:tab algn="l" pos="0"/>
                <a:tab algn="l" pos="97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9:08:26Z</dcterms:created>
  <dc:creator>Peggy Chan</dc:creator>
  <dc:description/>
  <dc:language>en-US</dc:language>
  <cp:lastModifiedBy>David Wang</cp:lastModifiedBy>
  <dcterms:modified xsi:type="dcterms:W3CDTF">2001-04-24T03:56:54Z</dcterms:modified>
  <cp:revision>11</cp:revision>
  <dc:subject/>
  <dc:title>OP 216   OBJECT ORIENTED PROGRAMMING</dc:title>
</cp:coreProperties>
</file>