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902825"/>
  <p:notesSz cx="6858000" cy="8056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6152760"/>
            <a:ext cx="51055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420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64280" y="304812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90840" y="304812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615276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64280" y="615276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290840" y="6152760"/>
            <a:ext cx="16437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914040"/>
            <a:ext cx="57909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54200" y="615276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54200" y="3048120"/>
            <a:ext cx="24912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6152760"/>
            <a:ext cx="51055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762120"/>
            <a:ext cx="5790960" cy="8458200"/>
          </a:xfrm>
          <a:prstGeom prst="rect">
            <a:avLst/>
          </a:prstGeom>
          <a:noFill/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457200"/>
            <a:ext cx="17715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91120" y="9020160"/>
            <a:ext cx="17524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sson 5 - </a:t>
            </a:r>
            <a:fld id="{1540AEE0-A842-4608-A79B-2A22F350EC40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943520" y="561960"/>
            <a:ext cx="809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90720" y="9029880"/>
            <a:ext cx="17334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S255/0898/V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nfo_gray" descr=""/>
          <p:cNvPicPr/>
          <p:nvPr/>
        </p:nvPicPr>
        <p:blipFill>
          <a:blip r:embed="rId2"/>
          <a:stretch/>
        </p:blipFill>
        <p:spPr>
          <a:xfrm>
            <a:off x="1066680" y="542880"/>
            <a:ext cx="1619280" cy="292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282320"/>
            <a:ext cx="57909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5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ORIENTED CONCEPTS USING C++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88756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concept, purpose and syntax of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functions as members of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lass members of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lass members with access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embe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his pointer and explain its purp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nstructors and destructors and be able to apply the type of constru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 in a Structure Definition Example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476440"/>
            <a:ext cx="5105520" cy="65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*holiday = new Da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eclare holiday as a pointe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and point it to new memory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holiday points to 3 pa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mon, day and display(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iday -&gt;mon = 1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for mon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by holiday, set it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iday -&gt;day = 1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imilarly fo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iday -&gt; display( 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// call display(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function pointed by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 holiday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remov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pointed by hol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/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557080"/>
            <a:ext cx="5105520" cy="64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Dat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m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display (void) {cout &lt;&lt;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”/ ”&lt;&lt;mon &lt;&lt; endl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setDate (int m, int 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mon = m; day = d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get_month (void) {return mo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get_day (void) {return day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hired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setDate(2,2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display(  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63988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mon = 10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this is still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day = 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this is still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“hire date month 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hiredate.get_month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 “\ nhire date day is” &lt;&lt; hire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_day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 date month is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 date day is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ss Regi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to Enforce Data Hid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476440"/>
            <a:ext cx="51055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-- only member functions of the class can access the privat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-- no restrictions to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defined anywher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to public me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ed -- only member functions of the class and member functions of derived classes can be access the protec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erived classes and inheritance are discussed later in the cours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ault Access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default to pri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s and unions default to publ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ying and Access Reg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63988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dicate which access region a member is in, use the name of the access region in the class definition followed by a colon (a lab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A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: // this is optional 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public is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public members declar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private members declar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fying and Access Reg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: // this is optional 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private is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members declar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member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145960"/>
            <a:ext cx="5105520" cy="70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/ This program aims to give you a first introduction to Private and Public data elements and //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Date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m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display (void) {cout &lt;&lt; day &lt;&lt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” &lt;&lt; mon &lt;&lt; endl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id setDate (int m, int d) [mon = m; day = d;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get_month (void) {return mon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 get_day (void) {return day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hired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setDate(2, 2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display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mon = 10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day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“hire date month is” 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get_month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“\nhire date day 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 hiredate.get_day(  )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610920"/>
            <a:ext cx="57909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4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36800"/>
            <a:ext cx="5105520" cy="72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at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print_day(vo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cout &lt;&lt; day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print_mon (vo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cout &lt;&lt; mon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_mon (int 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mon = m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_day (int 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day = d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isplay (voi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print_day(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“/”;print_mon( )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day.set_mon(5);// first, se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month using set_mon( )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day.set_day(1); // then set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using set_day( ) function in pay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day.display( );  // display th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ng Member Functions Within The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6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a member function is defined within the case definition, it is implicity def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6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more common to define the member functions outside of the class de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6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xample, Example 5 shows how to do th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es and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2063880"/>
            <a:ext cx="5105520" cy="70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, struct is used to organise program data. A structure is an aggregation of related variables that maintains state information and that can be treated as a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++ adds more functionality to str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++ also has a class constru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es are used in C++ instead of struct even though classes and structs offer the same capabilities in C++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nction can be members of classes and stru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ggregation of data defines the data structure and the functions define the behaviou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63200"/>
            <a:ext cx="57909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5: DATE.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260080"/>
            <a:ext cx="5105520" cy="680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program name : dat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note : you cannot have underlin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program code. It is used her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identify interes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Date (int,i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isplay (vo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“date.h” // calls the 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declare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ate  :: display 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day &lt;&lt; “/” &lt;&lt; mon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ate :: display 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= 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=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ng Members Functions Outside the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63988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Yet another example on defining member functions outside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“date.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setDate(2, 2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redate.display(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ng Members Functions Outside the Cla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member functions are defined outside the class definition, you need to use the class scope quantifier (::) at the point of defin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eft operand of the :: operator is the class name to which the function belongs. The right operand is the identifier of the fu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ember Functions Know Which Objects to Acc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s pointer c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s pointer is an implicit (hidden) first argument to member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olds the address of the object to be acc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utomatically dereferenced to properly access an object’s member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ember Functions Know Which Objects to Acc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55744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ate :: display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day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mon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ate :: display (Date * th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this-&gt; day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this-&gt; mon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e 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y. display(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e 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ate :: display (&amp; d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 this is a reserved word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t is necesary to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inter explicity within a 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228760"/>
            <a:ext cx="5105520" cy="68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m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setDate (int m, int d) {mon = m;day = d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isplay (void) {cout &lt;&lt; day &lt;&lt; “/” &lt;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&lt;&lt; “/n”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which_day (vo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ate :: which_day 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day =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“(local block)” &lt;&lt; day &lt;&lt; 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“(class member)” &lt;&lt; this - &gt; 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toda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. setDate (1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. which_day(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476440"/>
            <a:ext cx="51055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ors are special member functions that are automatically called when an object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ors are used to initializes the data members of the o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provide guaranteed initialisation of the data contained within an object declared to be of a given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ors may not be called explicity through an obje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claration of the object activates the initialisation specified in the constru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557440"/>
            <a:ext cx="510552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ructor’s identifier is the same as the class’s tag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may not return a value or declare any return type, not even v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ly one constructor is declared and it takes two arguments, you must provide two values when declaring an object of that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nstructor exists, it will be invoked when an object is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ors can be overloaded. (See example 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95000"/>
            <a:ext cx="579096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8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402920"/>
            <a:ext cx="5105520" cy="79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um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den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(int,int); //constructor function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isplay (void) {cout &lt;&lt; numer &lt;&lt; “/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denom &lt;&lt; endl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:: Fraction (int n, int 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 = n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reate a num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 = d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reate a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  X (1, 2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constructor called 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declaration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display(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86976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9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063880"/>
            <a:ext cx="5105520" cy="75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nu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den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(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(int, 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display (void) {cout &lt;&lt; numer &lt;&lt;“/” &lt;&lt; denom &lt;&lt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l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:: Fraction (void) {numer = 0; denom = 1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:: Fraction (int n) {numer = n; denom = 1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:: Fraction (int n, int d) {numer = n; denom = d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Fraction f1 (3, 5);   // automatically initialise f1 to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 f2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ame as fs(0) or f2(0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 f3 (4)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same as f3 (4, 1) or f3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f4 (f2)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make a copy of f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f5 ( )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/ f5 is a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1. display 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2. display 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3. display 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4. display 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of Classes and Stru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20720"/>
            <a:ext cx="510552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lasses or struct you 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e data efficiently (data hi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ndle procedures together with the data on which they operate (abstraction and encap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your own data types (user-defined data ty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ities of struct an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re collection of related data elements which may be 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contain function prototype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provide three level of access: public, protected and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between struct and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access for struct is 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access for class is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ors -- Default Parameter Val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s are specified in the declaration, not the defi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825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efault values are used when the number of parameters passed is less than the number of parameters that the function expec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necessary to provide default values for every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artial list is used, start with the last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func (int, float, int = 0, char = ‘?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0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5105520" cy="71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um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deno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(int n = 0, int d = 1) {numer =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om = d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isplay (void) {cout &lt;&lt; numer &lt;&lt; “/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denom &lt;&lt; endl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(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Fraction f1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numer = 0, deno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f2(3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numer = 3, deno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 f3(5, 2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numer = 5, denom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:f1;”; f1. display(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“f2:”; f2. display(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“f3:”; f3. display( 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1 : 0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2 : 3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 : 5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ructors -- How to Initialise Arrays of Objec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comma-separated list of values in braces in the array decla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the same number of values as there are array elements (obje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rray is dynamically allocated, no constructor values may be provided (new cannot initialise arrays of any type) and there must be a constructor which takes zero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1 : OOP-EG15. CP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228760"/>
            <a:ext cx="51055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 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nu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 den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(int n = 0, int d = 1) {numer = n; denom = d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setFrac (int n, int d) {numer = n; denom = d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 display (void) {cout &lt;&lt; numer &lt;&lt; “/” &lt;&lt; denom 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l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 int SIZE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a[SIZE] = {Fraction(3, 5), Fraction (6), Fr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, 9)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ction * pt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 = new Fraction [SIZ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[0]. setFract (32, 35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[2]. setFract (72, 7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int I = 0; I &lt; SIZE; I++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[I]. display( 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I = 0; I &lt; SIZE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r[1]. display(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truc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94000"/>
            <a:ext cx="5105520" cy="65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ors are special member functions that are used to “clean-up” when an object of the type goes out of sc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ing up often involves releasing all memory allocated to an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also refer to flushing I/O buffers, closing fil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uctors are called automatically when an object of the class goes out of scope (is being destroy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Tagname( ) : Destructors are member function whose identifier is the same as the class tagname preceded by a tilde (~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verloading : Destructors may not take any arguments. Therefore, there may be only one destructor per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turn Type : Just as with constructors, destructors may not return any value or specify any return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2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*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(char *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String (void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estructor 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display (void) {cout &lt;&lt; st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&lt; endl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:: String (char *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 - strlen(s) +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= new char[len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cpy (string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2 : OOP-EG15. CP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:: ~String (char *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de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[] str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“destructor called”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lang (“English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. display(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t &lt;&lt; “end of main” &lt;&lt; end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// object goes out of scope, destructo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/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and a Proble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113: OOP-EG17. CP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tring {int l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*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(char * = :default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String (vo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d display (void) {cout &lt;&lt; string &lt;&lt; endl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:: String (char * 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 = strlen(s)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= new char[le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py (string,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 :: ~String 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&lt;&lt; “destructor called with “&lt;&lt; string &lt;&l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[ ] 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Example and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55744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a (“first string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*ptr = new String (“pointer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numbers [ ] = [“one”, “two”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 *words = new String [3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pt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word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 called with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 called with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 called with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 called with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ructor called with firs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es Represent Abstra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 is a different way to view an application’s data. A class consists of two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6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data elements that describe the state of the object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6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s that define the behaviour of the ob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s are Instances of Classes and Stru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63988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is a variable of a class or struct data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provide a way to define both data elements and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elements are the data members of the class that define the object’s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elements can be any of the built-in data types or other user-defined data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 functions are the operations that the object can per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Vs.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2476440"/>
            <a:ext cx="5105520" cy="67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-defined data types must be defined before variables may be created of that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have the following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ass TagNam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// he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// data declarati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// operations declaratio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};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// definition is now complet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Vs.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557080"/>
            <a:ext cx="5105520" cy="64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Produ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ata element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under thi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roduct_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an onl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is clas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product_name[2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product_description[8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product_pr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quantity_on_h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data element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 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ection 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(int, char[], float, 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be used by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es or by its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Vs. Decla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393640"/>
            <a:ext cx="510552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ViewProduct( 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getPrice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d updateOn Hand (i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_on -hand and product_price are examples of data elements in the Product class and getPrice(  ) and ViewProduct(  ) are examples of operations in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claration of a class type uses just the head of the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 TagNam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 in a Structure Definition Example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5105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include &lt;iostrea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Data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m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d display (void) {cout &lt;&lt; day &lt;&lt;“/” &lt;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 &lt;&lt; endl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(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today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today is of the type of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.mon = 5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the mon of toda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set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.day = 2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.display(  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call the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function in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17:40:40Z</dcterms:created>
  <dc:creator>Peggy Chan</dc:creator>
  <dc:description/>
  <dc:language>en-US</dc:language>
  <cp:lastModifiedBy>David Wang</cp:lastModifiedBy>
  <dcterms:modified xsi:type="dcterms:W3CDTF">2001-04-24T03:54:01Z</dcterms:modified>
  <cp:revision>46</cp:revision>
  <dc:subject/>
  <dc:title>LESSON 5  OBJECT ORIENTED CONCEPTS USING C++</dc:title>
</cp:coreProperties>
</file>